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828E2-410B-4BD5-8BD4-9817B04FC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0AE68-2FA1-42A8-9734-FAA00AA99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341FD-5A79-4795-BDD1-83233FA1F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B8151-858F-46CE-A989-03CD17B67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EB1E8-CF90-4913-B9AB-B5AC78229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B75C2-20B0-4247-AC5E-5F00B14BB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AF593-CD7E-4D5D-B713-9DB21A69A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9E1B0-0AC6-4C0B-9AFE-499E44C36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D682B-DE22-43D5-AE6B-B3D30D399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7A36B-7B63-4AE8-A52E-991C2BD0C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20814-60F2-477D-BB25-62DA2A18F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09895-BA4F-4481-91D3-AF349268E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0021C-C44E-4672-8FB4-111870B21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3B9A9-8A35-4BB9-B043-77CC1DE39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F29F3-A239-4980-AE84-2C9C21541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3A497-DEB6-4673-94B3-01DAA85FC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20415-A6A4-4A19-9181-AAFD34B3C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1205F-6A0E-4578-97FC-4EB1C25AB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7DBF6-C7B8-4C8C-8E9D-60BB74142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6DF779-E370-4800-A8DB-13AEA56AB3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9BDF7D-9572-4E79-8AA4-6C83A7F9B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9B8F7-830C-4870-8AD4-F0E18699AC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A5243-096D-4F82-909A-5843F665B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A65E5-54F9-4683-A284-CA0D638F6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EF8C8-5102-447A-A364-7D0049A05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D24F7C-9029-40BA-8C72-4110AA0B3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9A7E2-122F-4974-B776-A9429D9C8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82F1C1-069E-4B67-8D4F-30E0E27C08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09B5E3-546E-4F03-955A-924D662CB2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C401A6-C708-4B8B-9523-0BF4D93C47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B7D3E4-BED2-4133-B6F7-6EB5089016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9C1E74-DC41-4517-955C-2796A1CC3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203E6-AB75-48C6-B350-8C70DD706F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CD89C-5680-4779-9370-58FC4BD0D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3E1E6-132B-4CD1-A529-F455DEAB83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3D45E-DCBA-4C48-A7E1-26F0ED4BC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5254A5-912E-4937-BA37-34521204C3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933A9-8FB0-4858-9254-74BE71417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ECF5E-2E8F-4E5F-8C77-7EA7A6968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A90B3-D2F8-4170-B3EA-85C891EC0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AE613-1DA9-48EE-A750-771803EA6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99B306-D835-4F2C-89DD-D4F308F0A9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E4A678-73AA-464B-B30E-3A8EDB905A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9A1773-8D68-45B0-B62C-E483E4AD73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F7760-F525-408C-AACF-35935144E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52CC9-CABB-44A2-900E-04BEF6749F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7F720-6E8A-4481-BF70-26192F4CD1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D982DC-6C04-4742-AA84-C655CB4DDF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B17235-A98F-4E33-A498-087B2A4609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77FEC-77A7-45DE-A280-E25EE659AB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68CBC3-80D9-4B04-BD59-03062FFCF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DFFD1-C64D-4DED-8C3E-EC7263A4A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971ED-9529-428E-B0A9-6FDF139CB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9F0D87-6873-4672-878D-95BA231383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20E64E-8EB7-4D4A-898F-C9E2F587C5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626D6-86C8-43A5-BC9A-D1E232E3C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C63487-CD63-4853-8B2C-9F4D32ED25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13F2D-BDD5-4EDA-B653-D24C396B0A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CAD78-476D-4987-BDD6-CB9BDF83D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066837-ECD0-477A-BCE6-6DD7AF434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51F4D3-383E-4898-B7B7-CFAC9CE836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561386-4EAE-4FE3-AA70-EF426082CD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AFCCEA-6B88-491E-AF8C-8E103DC93D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6A9CC-E7CB-40AF-ADE8-13B51D981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5A0AE-960E-4E04-9530-9A8DC140E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5E7783-797C-4DE3-9CF3-E23A211A8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63239-55AB-4F4C-81E5-84E68E881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FF567F-058B-4683-801F-850743CC10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C34D3D-77EC-41A9-9E2B-6944126328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4A32DA-3333-4DFE-B807-9A10A8FEE5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C8047C-BBD4-4068-99FB-21EB1D9320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AAFB9-B1E5-4761-918D-EBC35FE9D6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63EFCA-E2E0-4018-83D7-2A04DB246D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627A6-9347-4B55-BD6B-AFD2B7EF23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A75851-E3F6-4B96-AB90-47F3EF40FF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BCE92E-B2C8-4D2C-A6F5-A11E87543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D562A-3A28-456C-8C62-1E75E4A446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FBAE-C98B-41EC-BAC7-9871AC889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AE6E6E-4BAC-473F-94EC-5D917FB90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0DF857-3032-4768-AAA4-A34FB2D1E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6D7A47-01E0-49D4-8FF8-A196AC4B2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235CCF-CFFC-4E7B-841B-C8AC176B9A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E57B56-36C6-4F31-90BC-A6159B6025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9BD4E7-4A9B-40DC-BECC-696C04D788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98228-85BE-4782-81E4-AE99C06061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32CF9-44B6-4E87-88B0-8BBF1EBF4A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FB3BEF-5327-4802-BE34-4A86271077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D3E707-9DDD-4DA8-B0AB-021E5F6EF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B2B30-7CC9-4748-B8D5-6B5C0615A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A74048-B150-4983-B3D6-D092A93982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9F37F-7535-4C1F-A727-762A7BDDA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796B3-30F9-40B7-9549-4DCD6D5C1D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061AD1-823E-4AAB-884D-04C28E005F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2D8979-D558-4727-A983-189CB57F9B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6731C0-A9CD-42F2-8251-A31AFD4A20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129471-9A6B-4F7D-8EEB-1AD2D373547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1A71-A0A4-4E10-951C-D94CE9F7AF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88760" y="4952880"/>
              <a:ext cx="7449480" cy="486720"/>
            </a:xfrm>
            <a:custGeom>
              <a:avLst/>
              <a:gdLst>
                <a:gd name="textAreaLeft" fmla="*/ 0 w 7449480"/>
                <a:gd name="textAreaRight" fmla="*/ 7449840 w 744948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38160" y="5236560"/>
              <a:ext cx="9099720" cy="786240"/>
            </a:xfrm>
            <a:custGeom>
              <a:avLst/>
              <a:gdLst>
                <a:gd name="textAreaLeft" fmla="*/ 0 w 9099720"/>
                <a:gd name="textAreaRight" fmla="*/ 9100080 w 909972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8240"/>
              <a:ext cx="9135360" cy="1866240"/>
              <a:chOff x="2520" y="4998240"/>
              <a:chExt cx="9135360" cy="1866240"/>
            </a:xfrm>
          </p:grpSpPr>
          <p:pic>
            <p:nvPicPr>
              <p:cNvPr id="52" name="Freeform 19" descr=""/>
              <p:cNvPicPr/>
              <p:nvPr/>
            </p:nvPicPr>
            <p:blipFill>
              <a:blip r:embed="rId2"/>
              <a:stretch/>
            </p:blipFill>
            <p:spPr>
              <a:xfrm>
                <a:off x="2520" y="4998240"/>
                <a:ext cx="9135360" cy="1866240"/>
              </a:xfrm>
              <a:prstGeom prst="rect">
                <a:avLst/>
              </a:prstGeom>
              <a:ln w="0">
                <a:noFill/>
              </a:ln>
            </p:spPr>
          </p:pic>
          <p:sp>
            <p:nvSpPr>
              <p:cNvPr id="53" name=""/>
              <p:cNvSpPr/>
              <p:nvPr/>
            </p:nvSpPr>
            <p:spPr>
              <a:xfrm>
                <a:off x="252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F2DF-CB87-431B-B3DD-1344D30851F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3"/>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2600" y="5778360"/>
            <a:ext cx="3414600" cy="110340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CFBE-121F-4E9C-857D-8ECEF796F50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8480" cy="1085760"/>
            <a:chOff x="-6480" y="5791320"/>
            <a:chExt cx="3408480" cy="1085760"/>
          </a:xfrm>
        </p:grpSpPr>
        <p:pic>
          <p:nvPicPr>
            <p:cNvPr id="148" name="Right Triangle 13" descr=""/>
            <p:cNvPicPr/>
            <p:nvPr/>
          </p:nvPicPr>
          <p:blipFill>
            <a:blip r:embed="rId3"/>
            <a:stretch/>
          </p:blipFill>
          <p:spPr>
            <a:xfrm>
              <a:off x="-6480" y="5791320"/>
              <a:ext cx="3408480" cy="108576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2600" y="5778360"/>
            <a:ext cx="3414600" cy="11034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FA87-64F9-40D1-99AC-30DB0796681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CAEB-5506-4998-93AB-5B4E39F788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8480" cy="1085760"/>
            <a:chOff x="-6480" y="5791320"/>
            <a:chExt cx="3408480" cy="1085760"/>
          </a:xfrm>
        </p:grpSpPr>
        <p:pic>
          <p:nvPicPr>
            <p:cNvPr id="236" name="Right Triangle 13" descr=""/>
            <p:cNvPicPr/>
            <p:nvPr/>
          </p:nvPicPr>
          <p:blipFill>
            <a:blip r:embed="rId3"/>
            <a:stretch/>
          </p:blipFill>
          <p:spPr>
            <a:xfrm>
              <a:off x="-6480" y="5791320"/>
              <a:ext cx="3408480" cy="108576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2600" y="5778360"/>
            <a:ext cx="3414600" cy="11034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345C-6AF5-44EA-A6C5-1591C33B816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B998-7891-4B2E-BCD3-96455BD557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8480" cy="1085760"/>
            <a:chOff x="-6480" y="5791320"/>
            <a:chExt cx="3408480" cy="1085760"/>
          </a:xfrm>
        </p:grpSpPr>
        <p:pic>
          <p:nvPicPr>
            <p:cNvPr id="324" name="Right Triangle 16" descr=""/>
            <p:cNvPicPr/>
            <p:nvPr/>
          </p:nvPicPr>
          <p:blipFill>
            <a:blip r:embed="rId3"/>
            <a:stretch/>
          </p:blipFill>
          <p:spPr>
            <a:xfrm>
              <a:off x="-6480" y="5791320"/>
              <a:ext cx="3408480" cy="108576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2600" y="5778360"/>
            <a:ext cx="3414600" cy="110340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7233-DF62-4A19-9504-6BDE9186DE8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odi.org.uk/resources/docs/1786.pdf"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1744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lejandres Gannon</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C Berkeley</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antages about federal ac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gnal-based advant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rnational advant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ations advantag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law prevents solvenc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st solvency deficit, states don’t have legal jurisidiction</a:t>
            </a:r>
            <a:endParaRPr b="0" lang="en-US" sz="23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or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P is clearly cheating</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tes fail/inefficien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rst solvency defici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to quantify, good texts get around i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tes budget D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icky if you have good ones with solid ev</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to outweigh the net-benn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rmut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ves ‘states are better’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iform action by nation prevents Congressional backlash to Obam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ractor bid choice</a:t>
            </a:r>
            <a:endParaRPr b="0" lang="en-US" sz="2300" spc="-1" strike="noStrike">
              <a:solidFill>
                <a:srgbClr val="000000"/>
              </a:solidFill>
              <a:latin typeface="Lucida Sans Unicode"/>
            </a:endParaRPr>
          </a:p>
        </p:txBody>
      </p:sp>
      <p:pic>
        <p:nvPicPr>
          <p:cNvPr id="3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a private actor invest in transportation infrastructure investment instead of the USF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ably cheating, hard to find lit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f already includes action by a private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me net-bennies as states cp but worse solvency</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719280" y="1054080"/>
            <a:ext cx="7778520" cy="2017800"/>
          </a:xfrm>
          <a:prstGeom prst="rect">
            <a:avLst/>
          </a:prstGeom>
          <a:ln w="0">
            <a:noFill/>
          </a:ln>
        </p:spPr>
      </p:pic>
      <p:sp>
        <p:nvSpPr>
          <p:cNvPr id="397"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insicness of global warming and the econom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Job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imulu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mis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il dependenc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cific economic sectors</a:t>
            </a:r>
            <a:endParaRPr b="0" lang="en-US" sz="2300" spc="-1" strike="noStrike">
              <a:solidFill>
                <a:srgbClr val="000000"/>
              </a:solidFill>
              <a:latin typeface="Lucida Sans Unicode"/>
            </a:endParaRPr>
          </a:p>
        </p:txBody>
      </p:sp>
      <p:pic>
        <p:nvPicPr>
          <p:cNvPr id="399"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1" descr=""/>
          <p:cNvPicPr/>
          <p:nvPr/>
        </p:nvPicPr>
        <p:blipFill>
          <a:blip r:embed="rId1"/>
          <a:stretch/>
        </p:blipFill>
        <p:spPr>
          <a:xfrm>
            <a:off x="719280" y="1054080"/>
            <a:ext cx="7778520" cy="2023920"/>
          </a:xfrm>
          <a:prstGeom prst="rect">
            <a:avLst/>
          </a:prstGeom>
          <a:ln w="0">
            <a:noFill/>
          </a:ln>
        </p:spPr>
      </p:pic>
      <p:sp>
        <p:nvSpPr>
          <p:cNvPr id="401"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ff has to defend an increase in investment</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Lucida Sans Unicode"/>
              </a:rPr>
              <a:t>Anderson, ‘6 </a:t>
            </a:r>
            <a:r>
              <a:rPr b="0" lang="en-US" sz="1700" spc="-1" strike="noStrike">
                <a:solidFill>
                  <a:srgbClr val="000000"/>
                </a:solidFill>
                <a:latin typeface="Lucida Sans Unicode"/>
              </a:rPr>
              <a:t>(Edward, Lecturer in Development Studies – University of East Anglia, et al., “The Role of Public Investment in Poverty Reduction: Theories, Evidence and Methods”, Overseas Development Institute Working Paper 263, March, </a:t>
            </a:r>
            <a:r>
              <a:rPr b="0" lang="en-US" sz="1700" spc="-1" strike="noStrike" u="sng">
                <a:solidFill>
                  <a:srgbClr val="ff8119"/>
                </a:solidFill>
                <a:uFillTx/>
                <a:latin typeface="Lucida Sans Unicode"/>
                <a:hlinkClick r:id="rId1"/>
              </a:rPr>
              <a:t>http://www.odi.org.uk/resources/docs/1786.pdf</a:t>
            </a:r>
            <a:r>
              <a:rPr b="0" lang="en-US" sz="1700" spc="-1" strike="noStrike">
                <a:solidFill>
                  <a:srgbClr val="000000"/>
                </a:solidFill>
                <a:latin typeface="Lucida Sans Unicode"/>
              </a:rPr>
              <a:t>)</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1.3 Definitions </a:t>
            </a:r>
            <a:r>
              <a:rPr b="0" lang="en-US" sz="1700" spc="-1" strike="noStrike" u="sng">
                <a:solidFill>
                  <a:srgbClr val="000000"/>
                </a:solidFill>
                <a:uFillTx/>
                <a:latin typeface="Lucida Sans Unicode"/>
              </a:rPr>
              <a:t>We define</a:t>
            </a:r>
            <a:r>
              <a:rPr b="0" lang="en-US" sz="1700" spc="-1" strike="noStrike">
                <a:solidFill>
                  <a:srgbClr val="000000"/>
                </a:solidFill>
                <a:latin typeface="Lucida Sans Unicode"/>
              </a:rPr>
              <a:t> (net) public </a:t>
            </a:r>
            <a:r>
              <a:rPr b="0" lang="en-US" sz="1700" spc="-1" strike="noStrike" u="sng">
                <a:solidFill>
                  <a:srgbClr val="000000"/>
                </a:solidFill>
                <a:uFillTx/>
                <a:latin typeface="Lucida Sans Unicode"/>
              </a:rPr>
              <a:t>investment as public expenditure that adds to the </a:t>
            </a:r>
            <a:r>
              <a:rPr b="0" lang="en-US" sz="1700" spc="-1" strike="noStrike">
                <a:solidFill>
                  <a:srgbClr val="000000"/>
                </a:solidFill>
                <a:latin typeface="Lucida Sans Unicode"/>
              </a:rPr>
              <a:t>public </a:t>
            </a:r>
            <a:r>
              <a:rPr b="0" lang="en-US" sz="1700" spc="-1" strike="noStrike" u="sng">
                <a:solidFill>
                  <a:srgbClr val="000000"/>
                </a:solidFill>
                <a:uFillTx/>
                <a:latin typeface="Lucida Sans Unicode"/>
              </a:rPr>
              <a:t>physical capital stock. This would include the building of roads, ports, schools, hospitals etc. This corresponds to the definition of public investment in national accounts data, namely, </a:t>
            </a:r>
            <a:r>
              <a:rPr b="1" i="1" lang="en-US" sz="1700" spc="-1" strike="noStrike" u="sng">
                <a:solidFill>
                  <a:srgbClr val="000000"/>
                </a:solidFill>
                <a:uFillTx/>
                <a:latin typeface="Lucida Sans Unicode"/>
              </a:rPr>
              <a:t>capital expenditure</a:t>
            </a:r>
            <a:r>
              <a:rPr b="0" lang="en-US" sz="1700" spc="-1" strike="noStrike">
                <a:solidFill>
                  <a:srgbClr val="000000"/>
                </a:solidFill>
                <a:latin typeface="Lucida Sans Unicode"/>
              </a:rPr>
              <a:t>. It is not within the scope of this paper to include public expenditure on health and education, despite the fact that many regard such expenditure as investment. Methods for assessing the poverty impact of public expenditure on social sectors such as health and education have been well covered elsewhere in recent years (see for example, van de Walle and Nead, 1995; Sahn and Younger, 2000; and World Bank, 2002).</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403" name="Title 3" descr=""/>
          <p:cNvPicPr/>
          <p:nvPr/>
        </p:nvPicPr>
        <p:blipFill>
          <a:blip r:embed="rId2"/>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ndates or incentives vs invest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dates – requirements for transportation polic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entives – tax cuts or benefits</a:t>
            </a:r>
            <a:endParaRPr b="0" lang="en-US" sz="2300" spc="-1" strike="noStrike">
              <a:solidFill>
                <a:srgbClr val="000000"/>
              </a:solidFill>
              <a:latin typeface="Lucida Sans Unicode"/>
            </a:endParaRPr>
          </a:p>
        </p:txBody>
      </p:sp>
      <p:pic>
        <p:nvPicPr>
          <p:cNvPr id="405"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719280" y="1054080"/>
            <a:ext cx="7778520" cy="2017800"/>
          </a:xfrm>
          <a:prstGeom prst="rect">
            <a:avLst/>
          </a:prstGeom>
          <a:ln w="0">
            <a:noFill/>
          </a:ln>
        </p:spPr>
      </p:pic>
      <p:sp>
        <p:nvSpPr>
          <p:cNvPr id="407"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0" lang="en-US" sz="2700" spc="-1" strike="noStrike" u="sng">
                <a:solidFill>
                  <a:srgbClr val="000000"/>
                </a:solidFill>
                <a:uFillTx/>
                <a:latin typeface="Lucida Sans Unicode"/>
              </a:rPr>
              <a:t>United States federal government</a:t>
            </a:r>
            <a:r>
              <a:rPr b="0" lang="en-US" sz="2700" spc="-1" strike="noStrike">
                <a:solidFill>
                  <a:srgbClr val="000000"/>
                </a:solidFill>
                <a:latin typeface="Lucida Sans Unicode"/>
              </a:rPr>
              <a:t> should substantially increase its </a:t>
            </a:r>
            <a:r>
              <a:rPr b="0" lang="en-US" sz="2700" spc="-1" strike="noStrike" u="sng">
                <a:solidFill>
                  <a:srgbClr val="000000"/>
                </a:solidFill>
                <a:uFillTx/>
                <a:latin typeface="Lucida Sans Unicode"/>
              </a:rPr>
              <a:t>transportation</a:t>
            </a:r>
            <a:r>
              <a:rPr b="0" lang="en-US" sz="2700" spc="-1" strike="noStrike">
                <a:solidFill>
                  <a:srgbClr val="000000"/>
                </a:solidFill>
                <a:latin typeface="Lucida Sans Unicode"/>
              </a:rPr>
              <a:t> infrastructure </a:t>
            </a:r>
            <a:r>
              <a:rPr b="0" lang="en-US" sz="2700" spc="-1" strike="noStrike" u="sng">
                <a:solidFill>
                  <a:srgbClr val="000000"/>
                </a:solidFill>
                <a:uFillTx/>
                <a:latin typeface="Lucida Sans Unicode"/>
              </a:rPr>
              <a:t>investment</a:t>
            </a:r>
            <a:r>
              <a:rPr b="0" lang="en-US" sz="2700" spc="-1" strike="noStrike">
                <a:solidFill>
                  <a:srgbClr val="000000"/>
                </a:solidFill>
                <a:latin typeface="Lucida Sans Unicode"/>
              </a:rPr>
              <a:t> </a:t>
            </a:r>
            <a:r>
              <a:rPr b="0" lang="en-US" sz="2700" spc="-1" strike="noStrike" u="sng">
                <a:solidFill>
                  <a:srgbClr val="000000"/>
                </a:solidFill>
                <a:uFillTx/>
                <a:latin typeface="Lucida Sans Unicode"/>
              </a:rPr>
              <a:t>in the United State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73"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law requires “Buy American” prov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o they do thi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n job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n industr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shouldn’t we do thi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rnational trad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urts relations with other countries</a:t>
            </a:r>
            <a:endParaRPr b="0" lang="en-US" sz="2300" spc="-1" strike="noStrike">
              <a:solidFill>
                <a:srgbClr val="000000"/>
              </a:solidFill>
              <a:latin typeface="Lucida Sans Unicode"/>
            </a:endParaRPr>
          </a:p>
        </p:txBody>
      </p:sp>
      <p:pic>
        <p:nvPicPr>
          <p:cNvPr id="409"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peti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to write this cp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et-benny to states since don’t have Buy American requirements and countries not concerned about states’ trade polici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C out of “investment in the United States” in the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t rid of current Buy American require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eful answering “Buy American key to stimulus advantage”</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3" descr=""/>
          <p:cNvPicPr/>
          <p:nvPr/>
        </p:nvPicPr>
        <p:blipFill>
          <a:blip r:embed="rId1"/>
          <a:stretch/>
        </p:blipFill>
        <p:spPr>
          <a:xfrm>
            <a:off x="719280" y="1054080"/>
            <a:ext cx="7778520" cy="2017800"/>
          </a:xfrm>
          <a:prstGeom prst="rect">
            <a:avLst/>
          </a:prstGeom>
          <a:ln w="0">
            <a:noFill/>
          </a:ln>
        </p:spPr>
      </p:pic>
      <p:sp>
        <p:nvSpPr>
          <p:cNvPr id="375"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50 states and the US territories and Washington DC will do the plan</a:t>
            </a:r>
            <a:endParaRPr b="0" lang="en-US" sz="2700" spc="-1" strike="noStrike">
              <a:solidFill>
                <a:srgbClr val="000000"/>
              </a:solidFill>
              <a:latin typeface="Lucida Sans Unicode"/>
            </a:endParaRPr>
          </a:p>
        </p:txBody>
      </p:sp>
      <p:pic>
        <p:nvPicPr>
          <p:cNvPr id="377"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litic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ection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spending</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ism</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itical net-benny</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0 states act on their o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0 states do the plan cooperativel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0 states engage in a compact to do the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ngle state counterpl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dev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pez (Interstate Commerce Clause)</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s most affs that don’t need to be federal dolla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aff specific evide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fiat to overcome solvency defici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generic 1AC evidence to prove cp suffici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at more than the aff</a:t>
            </a: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dget – states don’t have money</a:t>
            </a:r>
            <a:endParaRPr b="0" lang="en-US" sz="27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d funding plank to the cp (SIB, taxes)</a:t>
            </a:r>
            <a:endParaRPr b="0" lang="en-US" sz="23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 spending DA</a:t>
            </a:r>
            <a:endParaRPr b="0" lang="en-US" sz="23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s spend money more efficiently</a:t>
            </a:r>
            <a:endParaRPr b="0" lang="en-US" sz="23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 budgets recovering uniqueness</a:t>
            </a:r>
            <a:endParaRPr b="0" lang="en-US" sz="23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stimulus key</a:t>
            </a:r>
            <a:endParaRPr b="0" lang="en-US" sz="27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s do same stimulus, still creates jobs</a:t>
            </a:r>
            <a:endParaRPr b="0" lang="en-US" sz="23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ff doesn’t solve stimulus</a:t>
            </a:r>
            <a:endParaRPr b="0" lang="en-US" sz="2300" spc="-1" strike="noStrike">
              <a:solidFill>
                <a:srgbClr val="000000"/>
              </a:solidFill>
              <a:latin typeface="Lucida Sans Unicode"/>
            </a:endParaRPr>
          </a:p>
        </p:txBody>
      </p:sp>
      <p:pic>
        <p:nvPicPr>
          <p:cNvPr id="385"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lIns="90000" rIns="90000" tIns="46800" bIns="46800"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Uniformity ke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at solves harmoniza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P is a national policy implemented at state level</a:t>
            </a:r>
            <a:endParaRPr b="0" lang="en-US" sz="2300" spc="-1" strike="noStrike">
              <a:solidFill>
                <a:srgbClr val="000000"/>
              </a:solidFill>
              <a:latin typeface="Lucida Sans Unicode"/>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 Permut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to explain why it doesn’t link to net-benn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lves federal action</a:t>
            </a:r>
            <a:endParaRPr b="0" lang="en-US" sz="2300" spc="-1" strike="noStrike">
              <a:solidFill>
                <a:srgbClr val="000000"/>
              </a:solidFill>
              <a:latin typeface="Lucida Sans Unicode"/>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 Federal law prevents cp</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st aff arg, may kill the cp vs certain affs</a:t>
            </a:r>
            <a:endParaRPr b="0" lang="en-US" sz="2300" spc="-1" strike="noStrike">
              <a:solidFill>
                <a:srgbClr val="000000"/>
              </a:solidFill>
              <a:latin typeface="Lucida Sans Unicode"/>
            </a:endParaRPr>
          </a:p>
        </p:txBody>
      </p:sp>
      <p:pic>
        <p:nvPicPr>
          <p:cNvPr id="387"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05:40:18Z</dcterms:created>
  <dc:creator>Andres</dc:creator>
  <dc:description/>
  <dc:language>en-US</dc:language>
  <cp:lastModifiedBy>The Adams Family</cp:lastModifiedBy>
  <dcterms:modified xsi:type="dcterms:W3CDTF">2012-08-29T13:14:41Z</dcterms:modified>
  <cp:revision>8</cp:revision>
  <dc:subject/>
  <dc:title>PowerPoint Presentation</dc:title>
</cp:coreProperties>
</file>